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18.png" ContentType="image/png"/>
  <Override PartName="/ppt/media/image20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6.wmf" ContentType="image/x-wmf"/>
  <Override PartName="/ppt/media/image10.png" ContentType="image/png"/>
  <Override PartName="/ppt/media/image30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36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3.wmf" ContentType="image/x-wmf"/>
  <Override PartName="/ppt/media/image3.wmf" ContentType="image/x-wmf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FDE7-87A6-4624-91D7-33DC85B6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5BC4-074D-4A22-BC60-36EFB0CE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0829-99D1-4DED-9B24-A4A8C7AA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EEC-EFE6-4310-8973-A8A81FAD7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B9FE-D57A-43C8-8EC8-3270CB325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8974-FCFC-48E9-9EA6-B1AA227E8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BC97-4C7A-4207-9C6E-9106323C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B5AE-A80F-4738-A8F3-53384B8B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845-C9FB-4D46-AAE7-B74EA6C3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A878-036B-4DF6-BCAF-9EC4A3B4D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A416-1E35-4486-833D-2689322A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475-D0D0-4C53-914F-C535A94C3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9E32-E533-49B2-A63D-45BE17405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50D4-07BE-4E1E-80C8-9FD5753EA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E0FE-902E-4ED0-9339-4BC8D430C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D455-B121-4AEB-87A7-BB6EADA9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C76B-19CD-4616-9CB0-E0C29A194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C05B-8C0A-41AD-8B33-EE8A7493A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1767-7C6C-4F0B-9752-CDBDCD01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2C51-4A8C-42EF-9992-336A39712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6B45-708A-49F2-B718-C9231F7D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A234-5661-4D51-B097-A5A10C05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F36B-897A-4300-9F5A-0946DD3B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6B9-499E-4A45-83F1-A03E3272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8FB3-B233-4CEC-80AB-55C41D8B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F88A-9F8A-4EDA-9DD6-79088F23E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946F-9B27-4BEB-9621-0F7AFD70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A972-3F79-4ADC-BDCC-020788E4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414-4480-49D0-B23C-8DC74C2A6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7885-542A-4E6E-9B54-9A94E8593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CAA9-62D3-4631-AE14-9201BBE9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20C1-F595-45F1-A2A1-190C31445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B84F-474E-41AD-9E36-9C63F65E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6C8-4210-4F53-8C62-2CA1FA15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DBB-1778-49C7-85CF-9F26810F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495-EA99-4177-9779-79D28436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C48-374D-4708-B2DE-94BAD0EF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A37-A892-433C-A52E-76400A0E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0FA8-F125-4AC2-8241-A7DE16A4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7BC3-935A-4DAD-B74E-221A746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0162-B771-473A-8C01-028DE9F0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02C-9D20-4B85-A9E2-D86B08D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646-9CC9-4133-AA5D-97CEB85C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79F-2082-427E-A17C-55C9FEFA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C4C-B99B-4AB3-BCDD-DF2C1A07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1B3F-9B09-4CBC-86B3-87F487E2F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ket.org/education/encyclomedia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lideshare.net/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www.slideboom.com/" TargetMode="External"/><Relationship Id="rId4" Type="http://schemas.openxmlformats.org/officeDocument/2006/relationships/image" Target="../media/image26.png"/><Relationship Id="rId5" Type="http://schemas.openxmlformats.org/officeDocument/2006/relationships/hyperlink" Target="http://www.slideshare.net/secret/3LP0pY2RClHLh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lmooreketresources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ket.org/lincoln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l.ket.org/scalecity/dino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l.ket.org/physicslabs/lab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42916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T Online Resources and Web 2.0 Tool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Tou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world destination to find out  the history, geography and culture of more than 36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ce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country to see dance descriptions, video samples, role of dance in culture info., activities,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 a world of sounds with music descriptions, video/audio ex., role of music in culture, activities,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eachers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ense teacher’s guide, Dance ATK lesson plan PDFs, audio files, and more teac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member all the ATKS are supported by the companion website a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>
            <a:hlinkClick r:id="rId1"/>
          </p:cNvPr>
          <p:cNvSpPr/>
          <p:nvPr/>
        </p:nvSpPr>
        <p:spPr>
          <a:xfrm>
            <a:off x="2133720" y="631980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19807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e Toolkit  World of Music and Danc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228600" y="274320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5000 videos- 50,000 video segment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Introduced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oring DE Streaming PD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AutoShape 6">
            <a:hlinkClick r:id="rId2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743200" y="2449440"/>
            <a:ext cx="327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15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Instructional resources with a variety of software and Web 2.0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45720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AutoShape 20"/>
          <p:cNvSpPr/>
          <p:nvPr/>
        </p:nvSpPr>
        <p:spPr>
          <a:xfrm>
            <a:off x="312408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Rectangle 23">
            <a:hlinkClick r:id="rId1"/>
          </p:cNvPr>
          <p:cNvSpPr/>
          <p:nvPr/>
        </p:nvSpPr>
        <p:spPr>
          <a:xfrm>
            <a:off x="2057400" y="2819520"/>
            <a:ext cx="23623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586728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4648320" y="2819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be1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AutoShape 20"/>
          <p:cNvSpPr/>
          <p:nvPr/>
        </p:nvSpPr>
        <p:spPr>
          <a:xfrm>
            <a:off x="5791320" y="1676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TextBox 37"/>
          <p:cNvSpPr/>
          <p:nvPr/>
        </p:nvSpPr>
        <p:spPr>
          <a:xfrm>
            <a:off x="533520" y="1752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TextBox 39"/>
          <p:cNvSpPr/>
          <p:nvPr/>
        </p:nvSpPr>
        <p:spPr>
          <a:xfrm>
            <a:off x="3200400" y="1752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TextBox 40"/>
          <p:cNvSpPr/>
          <p:nvPr/>
        </p:nvSpPr>
        <p:spPr>
          <a:xfrm>
            <a:off x="2133720" y="29066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43"/>
          <p:cNvSpPr/>
          <p:nvPr/>
        </p:nvSpPr>
        <p:spPr>
          <a:xfrm>
            <a:off x="5867280" y="3973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eMak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46483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TextBox 45"/>
          <p:cNvSpPr/>
          <p:nvPr/>
        </p:nvSpPr>
        <p:spPr>
          <a:xfrm>
            <a:off x="3200400" y="40496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1" name="Rectangle 46"/>
          <p:cNvSpPr/>
          <p:nvPr/>
        </p:nvSpPr>
        <p:spPr>
          <a:xfrm>
            <a:off x="45720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45720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AutoShape 20"/>
          <p:cNvSpPr/>
          <p:nvPr/>
        </p:nvSpPr>
        <p:spPr>
          <a:xfrm>
            <a:off x="3124080" y="388620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TextBox 50"/>
          <p:cNvSpPr/>
          <p:nvPr/>
        </p:nvSpPr>
        <p:spPr>
          <a:xfrm>
            <a:off x="38098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TextBox 51"/>
          <p:cNvSpPr/>
          <p:nvPr/>
        </p:nvSpPr>
        <p:spPr>
          <a:xfrm>
            <a:off x="5791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Sharing Tool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048120" y="5257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askerville Old Face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8" name="Picture 5" descr="C:\Documents and Settings\lmoore\Local Settings\Temporary Internet Files\Content.IE5\KJNM90WP\MPj04224830000[1].jpg"/>
          <p:cNvPicPr/>
          <p:nvPr/>
        </p:nvPicPr>
        <p:blipFill>
          <a:blip r:embed="rId1"/>
          <a:stretch/>
        </p:blipFill>
        <p:spPr>
          <a:xfrm>
            <a:off x="2057400" y="1371600"/>
            <a:ext cx="5143680" cy="34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6"/>
          <p:cNvSpPr/>
          <p:nvPr/>
        </p:nvSpPr>
        <p:spPr>
          <a:xfrm>
            <a:off x="0" y="314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mples of Embedding and HyperLink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5867280" y="5345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609480" y="5373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magnetis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2" name="Picture 6" descr="passion flower.jpg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3581280"/>
          </a:xfrm>
          <a:prstGeom prst="rect">
            <a:avLst/>
          </a:prstGeom>
          <a:ln w="0">
            <a:noFill/>
          </a:ln>
        </p:spPr>
      </p:pic>
      <p:pic>
        <p:nvPicPr>
          <p:cNvPr id="143" name="Electromagnetism.wmv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918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a video segment to a designated folder that also contains your Powerpoint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an be a text box, image, clip art,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” drop-down menu, sel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“OK” when fin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6" name="Picture 15" descr="block_exterior.jpg"/>
          <p:cNvPicPr/>
          <p:nvPr/>
        </p:nvPicPr>
        <p:blipFill>
          <a:blip r:embed="rId1"/>
          <a:stretch/>
        </p:blipFill>
        <p:spPr>
          <a:xfrm>
            <a:off x="7010280" y="1752480"/>
            <a:ext cx="192744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5">
            <a:hlinkClick r:id="rId2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5562720" y="3048120"/>
            <a:ext cx="838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2007 PowerPoin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04920" y="838080"/>
            <a:ext cx="86104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oolbar go to “Insert” and sel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Using the “handles” on the embedded movie screen you can move and resize your cl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utoShape 5">
            <a:hlinkClick r:id="rId1" action="ppaction://hlinksldjump"/>
          </p:cNvPr>
          <p:cNvSpPr/>
          <p:nvPr/>
        </p:nvSpPr>
        <p:spPr>
          <a:xfrm>
            <a:off x="838188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6477120" y="2181240"/>
            <a:ext cx="106668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22860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0 Slide Sharing Sit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76320" y="2666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cret Codes!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362320" y="5176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lideBo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" y="3933720"/>
            <a:ext cx="9124920" cy="1171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38080" y="3200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lideshare.net/secret/3LP0pY2RClHLhl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Action Button: Custom 8">
            <a:hlinkClick r:id="rId5"/>
          </p:cNvPr>
          <p:cNvSpPr/>
          <p:nvPr/>
        </p:nvSpPr>
        <p:spPr>
          <a:xfrm>
            <a:off x="762120" y="3124080"/>
            <a:ext cx="7086600" cy="533520"/>
          </a:xfrm>
          <a:custGeom>
            <a:avLst/>
            <a:gdLst>
              <a:gd name="textAreaLeft" fmla="*/ 34560 w 7086600"/>
              <a:gd name="textAreaRight" fmla="*/ 7052040 w 7086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86728" h="21600">
                <a:moveTo>
                  <a:pt x="0" y="0"/>
                </a:moveTo>
                <a:lnTo>
                  <a:pt x="286728" y="0"/>
                </a:lnTo>
                <a:lnTo>
                  <a:pt x="286728" y="21600"/>
                </a:lnTo>
                <a:lnTo>
                  <a:pt x="0" y="21600"/>
                </a:lnTo>
                <a:close/>
              </a:path>
              <a:path fill="lightenLess" w="286728" h="21600">
                <a:moveTo>
                  <a:pt x="0" y="0"/>
                </a:moveTo>
                <a:lnTo>
                  <a:pt x="286728" y="0"/>
                </a:lnTo>
                <a:lnTo>
                  <a:pt x="285328" y="1400"/>
                </a:lnTo>
                <a:lnTo>
                  <a:pt x="1400" y="1400"/>
                </a:lnTo>
                <a:close/>
              </a:path>
              <a:path fill="darken" w="286728" h="21600">
                <a:moveTo>
                  <a:pt x="286728" y="0"/>
                </a:moveTo>
                <a:lnTo>
                  <a:pt x="286728" y="21600"/>
                </a:lnTo>
                <a:lnTo>
                  <a:pt x="285328" y="20200"/>
                </a:lnTo>
                <a:lnTo>
                  <a:pt x="285328" y="1400"/>
                </a:lnTo>
                <a:close/>
              </a:path>
              <a:path fill="darkenLess" w="286728" h="21600">
                <a:moveTo>
                  <a:pt x="28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28" y="20200"/>
                </a:lnTo>
                <a:close/>
              </a:path>
              <a:path fill="lighten" w="28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Share -  www.slideshare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ing EncycloMedia With Photo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LM sedimentary rock.wmv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09480" y="5140440"/>
            <a:ext cx="8001000" cy="164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0" y="905040"/>
            <a:ext cx="9142560" cy="3666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ki- It’s not just for FaceBook and MySpace</a:t>
            </a: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819520" y="4572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voki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 Original Production Using EncycloMedia Cont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38080" y="59072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 a short movie created using “MovieMaker” which incorporates Encyclomedia Clips, images, and sound effect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6" name="Will_Lemurs.wmv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9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ome KET Resource Integration Si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80880" y="491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04920" y="4292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80880" y="360684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9" name="Picture 19" descr="C:\Documents and Settings\lmoore\Local Settings\Temporary Internet Files\Content.IE5\2MW80HCS\MPj04393500000[1].jpg"/>
          <p:cNvPicPr/>
          <p:nvPr/>
        </p:nvPicPr>
        <p:blipFill>
          <a:blip r:embed="rId1"/>
          <a:stretch/>
        </p:blipFill>
        <p:spPr>
          <a:xfrm>
            <a:off x="7043760" y="4572000"/>
            <a:ext cx="20113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228600" y="17524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lmooreketresources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Action Button: Custom 7">
            <a:hlinkClick r:id="rId2"/>
          </p:cNvPr>
          <p:cNvSpPr/>
          <p:nvPr/>
        </p:nvSpPr>
        <p:spPr>
          <a:xfrm>
            <a:off x="0" y="1752480"/>
            <a:ext cx="8534520" cy="609840"/>
          </a:xfrm>
          <a:custGeom>
            <a:avLst/>
            <a:gdLst>
              <a:gd name="textAreaLeft" fmla="*/ 39240 w 8534520"/>
              <a:gd name="textAreaRight" fmla="*/ 8495280 w 8534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02120" h="21600">
                <a:moveTo>
                  <a:pt x="0" y="0"/>
                </a:moveTo>
                <a:lnTo>
                  <a:pt x="302120" y="0"/>
                </a:lnTo>
                <a:lnTo>
                  <a:pt x="302120" y="21600"/>
                </a:lnTo>
                <a:lnTo>
                  <a:pt x="0" y="21600"/>
                </a:lnTo>
                <a:close/>
              </a:path>
              <a:path fill="lightenLess" w="302120" h="21600">
                <a:moveTo>
                  <a:pt x="0" y="0"/>
                </a:moveTo>
                <a:lnTo>
                  <a:pt x="302120" y="0"/>
                </a:lnTo>
                <a:lnTo>
                  <a:pt x="300720" y="1400"/>
                </a:lnTo>
                <a:lnTo>
                  <a:pt x="1400" y="1400"/>
                </a:lnTo>
                <a:close/>
              </a:path>
              <a:path fill="darken" w="302120" h="21600">
                <a:moveTo>
                  <a:pt x="302120" y="0"/>
                </a:moveTo>
                <a:lnTo>
                  <a:pt x="302120" y="21600"/>
                </a:lnTo>
                <a:lnTo>
                  <a:pt x="300720" y="20200"/>
                </a:lnTo>
                <a:lnTo>
                  <a:pt x="300720" y="1400"/>
                </a:lnTo>
                <a:close/>
              </a:path>
              <a:path fill="darkenLess" w="302120" h="21600">
                <a:moveTo>
                  <a:pt x="302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20" y="20200"/>
                </a:lnTo>
                <a:close/>
              </a:path>
              <a:path fill="lighten" w="302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8088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 access the PowerPoint and other resources used in today’s workshop go to my wiki at the address below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80880" y="2590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r more information regarding integrating KET resources check out these other KET consultants’ site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Instructional Online Services Provided to Ky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subject-related web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: The Kentucky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3" descr="Lincoln.jpg"/>
          <p:cNvPicPr/>
          <p:nvPr/>
        </p:nvPicPr>
        <p:blipFill>
          <a:blip r:embed="rId1"/>
          <a:stretch/>
        </p:blipFill>
        <p:spPr>
          <a:xfrm>
            <a:off x="0" y="990720"/>
            <a:ext cx="739152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60958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ket.org/lincoln/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1" name="Action Button: Custom 5">
            <a:hlinkClick r:id="rId2"/>
          </p:cNvPr>
          <p:cNvSpPr/>
          <p:nvPr/>
        </p:nvSpPr>
        <p:spPr>
          <a:xfrm>
            <a:off x="76320" y="6095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391520" y="990720"/>
            <a:ext cx="1752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6" descr="lincoln-cartoon.gif"/>
          <p:cNvPicPr/>
          <p:nvPr/>
        </p:nvPicPr>
        <p:blipFill>
          <a:blip r:embed="rId3"/>
          <a:stretch/>
        </p:blipFill>
        <p:spPr>
          <a:xfrm>
            <a:off x="7543800" y="1447920"/>
            <a:ext cx="156528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754380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Be sure and play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Abe Across Ky. Game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ale City: The Road to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447920"/>
            <a:ext cx="571500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0" y="1409760"/>
            <a:ext cx="335268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active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of Sca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Shadow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Shadow Puppe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yside Up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al Ma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-0-ram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Video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ature Collection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isville Slugger Museu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Thea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Chicken Festival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osaur World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52280" y="6858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new website from KET centers on proportional reasoning with emphasis on scale and scaling designed for middle grades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327636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4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5"/>
          <a:stretch/>
        </p:blipFill>
        <p:spPr>
          <a:xfrm>
            <a:off x="2133720" y="4267080"/>
            <a:ext cx="32763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209680"/>
            <a:ext cx="333036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s of the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oth C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isville Z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c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ation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inary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Weath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 Harrod and Fort Boones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ntist’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Coming this fall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Belle of Louisville!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6320" y="2286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just a few of the field trips produced by KE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143000" y="6019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3" name="Action Button: Custom 6">
            <a:hlinkClick r:id="rId3"/>
          </p:cNvPr>
          <p:cNvSpPr/>
          <p:nvPr/>
        </p:nvSpPr>
        <p:spPr>
          <a:xfrm>
            <a:off x="2743200" y="6095880"/>
            <a:ext cx="3733920" cy="53352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83" h="21600">
                <a:moveTo>
                  <a:pt x="0" y="0"/>
                </a:moveTo>
                <a:lnTo>
                  <a:pt x="151083" y="0"/>
                </a:lnTo>
                <a:lnTo>
                  <a:pt x="151083" y="21600"/>
                </a:lnTo>
                <a:lnTo>
                  <a:pt x="0" y="21600"/>
                </a:lnTo>
                <a:close/>
              </a:path>
              <a:path fill="lightenLess" w="151083" h="21600">
                <a:moveTo>
                  <a:pt x="0" y="0"/>
                </a:moveTo>
                <a:lnTo>
                  <a:pt x="151083" y="0"/>
                </a:lnTo>
                <a:lnTo>
                  <a:pt x="149684" y="1400"/>
                </a:lnTo>
                <a:lnTo>
                  <a:pt x="1400" y="1400"/>
                </a:lnTo>
                <a:close/>
              </a:path>
              <a:path fill="darken" w="151083" h="21600">
                <a:moveTo>
                  <a:pt x="151083" y="0"/>
                </a:moveTo>
                <a:lnTo>
                  <a:pt x="151083" y="21600"/>
                </a:lnTo>
                <a:lnTo>
                  <a:pt x="149684" y="20200"/>
                </a:lnTo>
                <a:lnTo>
                  <a:pt x="149684" y="1400"/>
                </a:lnTo>
                <a:close/>
              </a:path>
              <a:path fill="darkenLess" w="151083" h="21600">
                <a:moveTo>
                  <a:pt x="151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84" y="20200"/>
                </a:lnTo>
                <a:close/>
              </a:path>
              <a:path fill="lighten" w="151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d11"/>
                </a:solidFill>
                <a:latin typeface="Arial"/>
              </a:rPr>
              <a:t>KET Distance Learning</a:t>
            </a:r>
            <a:br>
              <a:rPr sz="4000"/>
            </a:br>
            <a:br>
              <a:rPr sz="100"/>
            </a:br>
            <a:r>
              <a:rPr b="1" lang="en-US" sz="100" spc="-1" strike="noStrike">
                <a:solidFill>
                  <a:srgbClr val="ffdd11"/>
                </a:solidFill>
                <a:latin typeface="Arial"/>
              </a:rPr>
              <a:t>http:/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19320"/>
            <a:ext cx="8610480" cy="54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1676520" y="619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www.dl.ket.org/physicslabs/labs/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9-06-16T02:41:47Z</dcterms:modified>
  <cp:revision>229</cp:revision>
  <dc:subject/>
  <dc:title>KET Online Resources and Web 2.0 tools</dc:title>
</cp:coreProperties>
</file>